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303-A407-4968-AAF5-3C41185E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FE4-E7E3-4746-8561-476FDC73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78B-252E-4CFB-B03B-CF506A3C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B5E-D740-4162-926F-8B897739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FD7-CC80-4165-8CA7-E0BE44C9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8E8-0F2A-497F-9834-E4B0408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C92-4BAB-430B-B746-14E9CFB2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FC1-30F6-408F-ACA4-201EE847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C0A-CDAB-4B9A-A0F0-C4FE28AF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233-F9DB-4F40-97E6-16D58A79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BCF-9950-4A54-8DC0-E938B03E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C41-803D-4D49-9CEE-36BA8E6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34B9-11D9-4051-AEBB-6CF85922529D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ccccff"/>
                </a:solidFill>
                <a:latin typeface="Times New Roman"/>
              </a:rPr>
              <a:t>Driving in Boliv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mnaya Road is nicknamed “the road of death” and it’s situated in 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43040" y="411120"/>
            <a:ext cx="5857920" cy="60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78040" y="952560"/>
            <a:ext cx="5586480" cy="4957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29000" y="423720"/>
            <a:ext cx="4086000" cy="601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704" b="0"/>
          <a:stretch/>
        </p:blipFill>
        <p:spPr>
          <a:xfrm>
            <a:off x="2209680" y="880920"/>
            <a:ext cx="4724640" cy="5100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43160" y="695160"/>
            <a:ext cx="4657680" cy="547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20800" y="1538280"/>
            <a:ext cx="5700600" cy="378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00240" y="795240"/>
            <a:ext cx="4943520" cy="52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00240" y="996840"/>
            <a:ext cx="4943520" cy="487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14440" y="531720"/>
            <a:ext cx="4515120" cy="580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8840" y="754200"/>
            <a:ext cx="4486320" cy="535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0320" y="754200"/>
            <a:ext cx="4743360" cy="535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71880" y="603360"/>
            <a:ext cx="4800600" cy="565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43160" y="1060560"/>
            <a:ext cx="4657680" cy="474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654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0"/>
            <a:ext cx="5150160" cy="6864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ccccff"/>
                </a:solidFill>
                <a:latin typeface="Times New Roman"/>
              </a:rPr>
              <a:t>Driving in Boliv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there’s alway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ountainous highway in 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2:53:46Z</dcterms:created>
  <dc:creator>Jacqui</dc:creator>
  <dc:description/>
  <dc:language>en-US</dc:language>
  <cp:lastModifiedBy>Jacqui</cp:lastModifiedBy>
  <dcterms:modified xsi:type="dcterms:W3CDTF">2006-10-31T03:19:29Z</dcterms:modified>
  <cp:revision>4</cp:revision>
  <dc:subject/>
  <dc:title>Driving in Bolivia</dc:title>
</cp:coreProperties>
</file>