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633-A6F5-4F76-B9CC-8FC8DBFE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663-C2A8-4850-89BE-D0DC905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1B9-3AB9-4FCC-8FE6-4AEE6DC7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66D-FFBD-42B0-9A40-72D62FE6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157-B59C-418D-8BBF-D13D62AB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F2F-F733-47F5-A04D-D864CEF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2FB-A85D-43FB-9F58-64C4886A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892-B296-4A78-A1AB-1DBE8DB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564-1C53-4C1A-910F-EA04E66E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99D-DCCA-4B23-973B-0B5846C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1BB-D937-41F8-B9AD-6B2BDE8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5D2-B5EB-4462-96A9-3C1BE6C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36A-7EA9-466F-9499-5E23390B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gingana4x4" descr=""/>
          <p:cNvPicPr/>
          <p:nvPr/>
        </p:nvPicPr>
        <p:blipFill>
          <a:blip r:embed="rId1"/>
          <a:stretch/>
        </p:blipFill>
        <p:spPr>
          <a:xfrm>
            <a:off x="2209680" y="60480"/>
            <a:ext cx="4648320" cy="434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45720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 Etapa - Condomínio - (Cantareira) São Paulo - SP - 10/Dez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-gingana4x4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4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09600" y="2976480"/>
          <a:ext cx="8381880" cy="488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2976480"/>
                    <a:ext cx="838188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38080" y="6858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 Etapa - Condomínio - (Cantareira) São Paulo - SP - 10/Dez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9600" y="2976480"/>
          <a:ext cx="8477280" cy="4881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9600" y="2976480"/>
                    <a:ext cx="847728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-gingana4x4" descr=""/>
          <p:cNvPicPr/>
          <p:nvPr/>
        </p:nvPicPr>
        <p:blipFill>
          <a:blip r:embed="rId1"/>
          <a:stretch/>
        </p:blipFill>
        <p:spPr>
          <a:xfrm>
            <a:off x="2133720" y="60480"/>
            <a:ext cx="4647960" cy="434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45720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ão Paulo - SP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Resultado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-gingana4x4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6858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ão Paulo - SP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2590920"/>
          <a:ext cx="9829800" cy="448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590920"/>
                    <a:ext cx="98298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rofeu" descr=""/>
          <p:cNvPicPr/>
          <p:nvPr/>
        </p:nvPicPr>
        <p:blipFill>
          <a:blip r:embed="rId1"/>
          <a:stretch/>
        </p:blipFill>
        <p:spPr>
          <a:xfrm>
            <a:off x="0" y="0"/>
            <a:ext cx="8755200" cy="656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4572000"/>
            <a:ext cx="228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EL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572000"/>
            <a:ext cx="228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EL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20:27:17Z</dcterms:created>
  <dc:creator>Vera Cruz Seguradora S.A.</dc:creator>
  <dc:description/>
  <dc:language>en-US</dc:language>
  <cp:lastModifiedBy>Mapfre Seguros S/A</cp:lastModifiedBy>
  <dcterms:modified xsi:type="dcterms:W3CDTF">2005-12-19T14:28:51Z</dcterms:modified>
  <cp:revision>10</cp:revision>
  <dc:subject/>
  <dc:title>Slide sem título </dc:title>
</cp:coreProperties>
</file>