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63F1-0F29-4AE3-937A-ADC9C9E4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89B0-C48B-4C32-8AF9-5A0269A4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5647-1075-44BC-9AEC-322D8FF9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7074-A82F-4339-A017-A77D1E41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EF30-388D-4C61-AC83-D8002C64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6061-27EE-4481-B84D-DEA8FEBF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C595-640A-4B08-8198-DA43A06D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1F30-3D16-4222-B534-C3E74850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3696-305B-406E-B660-46442B36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B524-580A-4A00-99DF-6F6E44EB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A364-EEF5-4AFD-AE42-1A4BC469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8E21-9AAD-4AB6-A5C7-4CC07466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B2B4-065C-4866-BF0C-E7906A7ED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8915400" cy="6564240"/>
            <a:chOff x="0" y="0"/>
            <a:chExt cx="8915400" cy="6564240"/>
          </a:xfrm>
        </p:grpSpPr>
        <p:pic>
          <p:nvPicPr>
            <p:cNvPr id="42" name="trofeu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755200" cy="65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28600" y="4572000"/>
              <a:ext cx="22860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MARELA !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629400" y="4572000"/>
              <a:ext cx="22860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MARELA !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14:23:04Z</dcterms:created>
  <dc:creator>Mapfre Seguros S/A</dc:creator>
  <dc:description/>
  <dc:language>en-US</dc:language>
  <cp:lastModifiedBy>Mapfre Seguros S/A</cp:lastModifiedBy>
  <dcterms:modified xsi:type="dcterms:W3CDTF">2005-12-19T14:23:53Z</dcterms:modified>
  <cp:revision>1</cp:revision>
  <dc:subject/>
  <dc:title>Slide sem título </dc:title>
</cp:coreProperties>
</file>