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9C0-A82F-4629-B74D-6E9B9A8E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948-E0F6-4AAF-BB25-249F23D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9DD-DD39-4124-8DC6-93AAD7B8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6B1-D559-4A3E-B5BB-864038FF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7C1-BCF5-49B6-A1EF-A5D87753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1A2-C9C7-4623-BD78-FCDC2D28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3F7-9F53-4557-A873-9E198CAA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E73-D17F-4C43-98D6-320161E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269-2F48-4EE4-A5D0-1ACED859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FB9-33A3-4625-8182-2FA81A12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181-D943-4952-A972-DB754A27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CC1-3E6E-4EB2-876F-70E7442D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E22C-9ABA-4421-B410-AFABFE8CB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-gingana4x4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4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14480" y="2895480"/>
          <a:ext cx="933444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2895480"/>
                    <a:ext cx="933444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09480" y="6858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a Etapa - Pinheirinho - (Cantareira) - São Paulo - SP - 23/Julho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20:27:17Z</dcterms:created>
  <dc:creator>Vera Cruz Seguradora S.A.</dc:creator>
  <dc:description/>
  <dc:language>en-US</dc:language>
  <cp:lastModifiedBy>Vera Cruz Seguradora S.A.</cp:lastModifiedBy>
  <dcterms:modified xsi:type="dcterms:W3CDTF">2005-07-29T14:20:58Z</dcterms:modified>
  <cp:revision>7</cp:revision>
  <dc:subject/>
  <dc:title>Slide sem título </dc:title>
</cp:coreProperties>
</file>